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A439-A86E-4408-8544-DDFE9546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B488-E4CA-4C52-9E2D-77D04D87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012E-12ED-4103-8809-788B089B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3F0D-8500-4EEF-881D-1E3CA064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806E-BC54-4FB5-A1DB-9F8118E8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F0C6-2593-4D58-822D-F7974418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4D82-69F0-4C39-9C60-669D2966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4BCE-9EEE-411C-BF14-63FC498D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ECF4-7D1B-4B84-BD51-8620D250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4059-B543-4068-BD17-FB4C418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3701-4D17-44C2-92CD-20F363CF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1F16-3C7F-42B1-B769-83B8A4C6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CE09-00A7-4349-9488-42D9C9B5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65C4-5277-4102-9896-9AF40C5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E095-00B7-422C-BA95-80BAC0D2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8E9-0E96-4DA4-B2A3-96D60863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4335-BA94-468B-BA99-B76A2C5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B740-931C-4032-9DFE-344CE619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A79C-D196-4B03-95CA-0E36FFFE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47C4-1698-459C-9D8E-2E97D06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80CF-F12F-4F3F-BA18-D2FC63EB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9430-C027-4142-80AB-55F0ED1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8CF0-0FAA-4CAD-9FDC-0E0A97D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83F7-B187-4D3C-842D-5FE042C6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ACE2-D806-4086-8ADC-9EAA426A1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3BE-4992-4CDB-86D9-033A63232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esktop Publish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Guide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cepts and Termi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reader decide to read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short &amp; con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different from body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sting type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typeface, larg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uppercase headlines to 2 or 3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ext into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ontrast and identify the content of the text that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reader quickly locate desi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photos and illustrations to the rest of the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ity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ting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ly Shape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Under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ext lines to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qual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ggerated Tabs &amp; I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ow &amp; Orph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tical &amp; Spell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Fo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s that Interfere with Bod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ext that is too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H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ing copyright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ktop Publ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computer to produce a document with both text and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ersonal 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hotocopy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rofessional 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gives you the option of publishing it digi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 -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face : the specific style or design of the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 ser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s: a set of type all of one size or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tyles: effects that can be added to text to make it stan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a: a measurement developed by printers that divides 1 inch by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: a division of a 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icas = 1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points = 1 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: the vertical space between lines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ing: the space between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 - 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s: used to add extra space and to line up text in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 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nts: used to add extra space and to set lines of paragraph apart from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ine in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i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i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sh left: every line is even at the lef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sh right: every line is even at the righ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ed: both flush left and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ed: every line is equal distance from both mar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n’t it just like Word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difference is that word processing is mainly used for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top Publishing makes positioning text and graphic independently on each other on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P gives you a more professional look to your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in organizing lay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aster page showing the relationship between margins, columns, and spaces between colum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 of the images on a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s all design elements symmetrically around the visual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nges elements asymmetrically off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52880" y="3276720"/>
            <a:ext cx="1868760" cy="2714760"/>
            <a:chOff x="4952880" y="3276720"/>
            <a:chExt cx="1868760" cy="27147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952880" y="3276720"/>
              <a:ext cx="18687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181480" y="57150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Bal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3276720"/>
            <a:ext cx="1795320" cy="2791080"/>
            <a:chOff x="6934320" y="3276720"/>
            <a:chExt cx="1795320" cy="27910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6934320" y="3276720"/>
              <a:ext cx="17953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162920" y="5791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Bal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evt="end">
                                        <p:tn val="277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a page or section of a page from the rest of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color and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oundaries of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thing Roo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space – lighter th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margins – darker th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s of Design – White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free of text or ar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adds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resting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lines should be surrounded by whit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s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between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ing, 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use 20 to 25% whit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used to separate parts of a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orizontal, 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hick or t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separate parts of a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inctive treatment of the heading or title of a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s the same from issue to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21:50:59Z</dcterms:created>
  <dc:creator>vicki.morris</dc:creator>
  <dc:description/>
  <dc:language>en-US</dc:language>
  <cp:lastModifiedBy>vicki.morris</cp:lastModifiedBy>
  <dcterms:modified xsi:type="dcterms:W3CDTF">2010-11-12T23:19:21Z</dcterms:modified>
  <cp:revision>6</cp:revision>
  <dc:subject/>
  <dc:title>Desktop Publishing</dc:title>
</cp:coreProperties>
</file>